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35D-763A-4EDA-9C63-109E83B8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9580-25D9-4710-B661-223C8F4C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476-6BA6-4BD4-BF6C-BC500AFD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BD5F-B99D-42BE-9C92-4DF3CFB6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760-DAFA-46EA-9810-064CD59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DE0-A4DF-4777-8382-C59A28CB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86C-95C0-4944-B1F8-250BC139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100-AE6E-41E2-BE61-17EA7EA6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987-0CC5-4A46-BD98-176204A8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ACA-908F-4A01-A7BD-856265FE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694-D19B-4B92-BDA3-20CEB91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397-FE7C-44A4-A182-20B2360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EE6B-CCA8-4C6E-B146-873F8D03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50000">
              <a:srgbClr val="fae3b7"/>
            </a:gs>
            <a:gs pos="100000">
              <a:srgbClr val="fbe4a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Milbau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wer point o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ENDS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4:21:13Z</dcterms:created>
  <dc:creator>CGB</dc:creator>
  <dc:description/>
  <dc:language>en-US</dc:language>
  <cp:lastModifiedBy>CGB</cp:lastModifiedBy>
  <dcterms:modified xsi:type="dcterms:W3CDTF">2008-06-09T13:46:53Z</dcterms:modified>
  <cp:revision>5</cp:revision>
  <dc:subject/>
  <dc:title>Nicholas Milbauer</dc:title>
</cp:coreProperties>
</file>